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3418B-1A24-4508-9F95-C9F0D0C7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A3510-413F-46B0-B91B-E35C08B7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DFE73-AA97-434B-AE95-2D4A834B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A723A-B4CC-4FB3-B748-D1B2B273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9570-0142-4FEF-95E1-3CB6DBC3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B590-3E2D-4617-A27D-7E23AE46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AB67-39BA-4AC4-8881-9574E0FB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7673-6CAF-49DB-94E2-273CDD75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0308-E10E-42D3-B573-ECC47AE3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C2B1-8334-43FC-BCF6-53058186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AD49-4DB4-487A-9934-36FF747F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AFACB-FC33-4BF7-8014-C28C281F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C294-A399-48C8-8E3B-4A3DD634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62B8-6A48-421D-991E-1CE3E196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1AC1-4079-4EF6-976E-8FB501B2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03F0-6878-4377-839A-699853C6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9A73-5B44-4263-9C4C-C349DC5F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755BE-3453-4AE0-BB0E-8F2BFC21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F8F49-132B-4588-8984-E63D819B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7AB87-EF51-4C7A-A51C-0C8791D9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D0C05-7C7F-4746-8204-A09947CC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72B62-DB8B-481A-9383-6A009BF4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33A77-E7A6-4051-9DF1-CB47581D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8BADB-B5E1-41C7-A6A4-71FFDA12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8E06-5F97-4BAE-AD62-BC30D2B9D22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97B6-E40B-4AB5-8155-3957A9594CB9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eft Brace 3"/>
          <p:cNvSpPr/>
          <p:nvPr/>
        </p:nvSpPr>
        <p:spPr>
          <a:xfrm>
            <a:off x="571680" y="1643040"/>
            <a:ext cx="571320" cy="242892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428920"/>
              <a:gd name="textAreaBottom" fmla="*/ 24141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5400" y="10800"/>
                  <a:pt x="0" y="10800"/>
                </a:cubicBezTo>
                <a:cubicBezTo>
                  <a:pt x="54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1071720" y="1928880"/>
            <a:ext cx="307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357120" y="27860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xposure Side 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eft Brace 4"/>
          <p:cNvSpPr/>
          <p:nvPr/>
        </p:nvSpPr>
        <p:spPr>
          <a:xfrm>
            <a:off x="4071960" y="857160"/>
            <a:ext cx="642960" cy="428652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4286520"/>
              <a:gd name="textAreaBottom" fmla="*/ 4269960 h 428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5"/>
                  <a:pt x="10800" y="270"/>
                </a:cubicBezTo>
                <a:lnTo>
                  <a:pt x="10800" y="10530"/>
                </a:lnTo>
                <a:cubicBezTo>
                  <a:pt x="10800" y="10665"/>
                  <a:pt x="5400" y="10800"/>
                  <a:pt x="0" y="10800"/>
                </a:cubicBezTo>
                <a:cubicBezTo>
                  <a:pt x="5400" y="10800"/>
                  <a:pt x="10800" y="10935"/>
                  <a:pt x="10800" y="11070"/>
                </a:cubicBezTo>
                <a:lnTo>
                  <a:pt x="10800" y="21330"/>
                </a:lnTo>
                <a:cubicBezTo>
                  <a:pt x="10800" y="2146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4643280" y="1285920"/>
            <a:ext cx="3786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rr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ens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ystemic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arget organs(CNS,P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spiratory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productive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arcin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3"/>
          <p:cNvSpPr/>
          <p:nvPr/>
        </p:nvSpPr>
        <p:spPr>
          <a:xfrm>
            <a:off x="428760" y="17146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and Guid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eft Brace 4"/>
          <p:cNvSpPr/>
          <p:nvPr/>
        </p:nvSpPr>
        <p:spPr>
          <a:xfrm>
            <a:off x="3000240" y="571680"/>
            <a:ext cx="357480" cy="264312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2643120"/>
              <a:gd name="textAreaBottom" fmla="*/ 26341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286080" y="857160"/>
            <a:ext cx="464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Chronic 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Acute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Acute occupational expo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Chronic occupational expo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2357280" y="457200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پيرامون حوادث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SH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رسيهاي</a:t>
            </a:r>
            <a:r>
              <a:rPr b="0" lang="fa-IR" sz="4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21844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تماس با مواد سمي در آزمايشگاه مي تواند نتايج خطرناكي حتي مرگ در بر داشته باش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ين صدمات مي تواند در هر آزمايشگاهي كه با مواد سمي كار مي كننداتفاق افت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يشتر اين صدمات قابل پيشگيري است در صورتي كه افراد از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جهيزات مناسب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كنيك و روش مناسب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دانش مناسب و كاف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PATIONAL SAFETY AND HEALTH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INIST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1700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4" descr="accident"/>
          <p:cNvPicPr/>
          <p:nvPr/>
        </p:nvPicPr>
        <p:blipFill>
          <a:blip r:embed="rId1"/>
          <a:stretch/>
        </p:blipFill>
        <p:spPr>
          <a:xfrm>
            <a:off x="5724360" y="4311720"/>
            <a:ext cx="3419640" cy="2546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000" spc="-1" strike="noStrike">
                <a:solidFill>
                  <a:srgbClr val="ff0000"/>
                </a:solidFill>
                <a:latin typeface="Arial"/>
              </a:rPr>
              <a:t>آزمايشگاه استاندارد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OSH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484280"/>
            <a:ext cx="8291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بايد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آلايندههاي موجود در محل كار پرسنل زير ح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ea typeface="Zar"/>
              </a:rPr>
              <a:t> مجاز باشد           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permissible exposure  li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دستورالعمل بهداشت كار با مواد شيميايي موجود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فردي بعنوان مدير ايمني شيميايي معين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به پرسنل اطلاعات وآموزش لازم داده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تمام ظروف مواد شيميايي داراي برچسب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همه مواد شيميايي داراي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  <a:ea typeface="Zar"/>
              </a:rPr>
              <a:t>MSDS</a:t>
            </a: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آزمايشات پزشكي و مشاوره پزشكي برا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   پرسنل انجام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s1"/>
          <p:cNvPicPr/>
          <p:nvPr/>
        </p:nvPicPr>
        <p:blipFill>
          <a:blip r:embed="rId1"/>
          <a:stretch/>
        </p:blipFill>
        <p:spPr>
          <a:xfrm>
            <a:off x="0" y="3213000"/>
            <a:ext cx="2425680" cy="3221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0000"/>
                </a:solidFill>
                <a:latin typeface="Arial"/>
              </a:rPr>
              <a:t>دستور العملهاي بهداشت مواد شيميايي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روش كار استاندار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ندازه گيري كنترل تما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جهيزات حفاظتي وتهويه مناس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طلاعات آموز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وجه به كار با مواد ويژه خطرنا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مصوب كردن برنامه ريز ي براي موادشيميايي از قب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آزمايشات پزشكي و مشاور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1835280" cy="2563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fa-IR" sz="4400" spc="-1" strike="noStrike">
                <a:solidFill>
                  <a:srgbClr val="ff0000"/>
                </a:solidFill>
                <a:latin typeface="Arial"/>
              </a:rPr>
              <a:t>كليد كار ايمن</a:t>
            </a: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 ..........</a:t>
            </a:r>
            <a:br>
              <a:rPr sz="3200"/>
            </a:b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شناخت خطرا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دستورالعمل بهداشتي 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بازنگري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SDS</a:t>
            </a: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-خطرات بهداشتي وفيزيكي        - ارزيابي حفاظ تجهيزات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  - نشانه ها و علائم تماس          - روشهاي كمكهاي اضطرار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همه برچسبه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آگاهي از پروتكل و روشهاي كا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توجه به اثربرخي مواد شيميايي كه اثر سمي تاخيري روي بدن دار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t_safety_symbol_key"/>
          <p:cNvPicPr/>
          <p:nvPr/>
        </p:nvPicPr>
        <p:blipFill>
          <a:blip r:embed="rId1"/>
          <a:stretch/>
        </p:blipFill>
        <p:spPr>
          <a:xfrm>
            <a:off x="468360" y="2060640"/>
            <a:ext cx="2522520" cy="2522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تجهيزات حفاظت فردي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PPE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بايدهمه لوازم حفاظت فردي بر اساس كد باشدودرمحيط كار استفاده شود.اين لوازم شامل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چشم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كفش ايمن داراي روك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تنفس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پيشبندهاي لاستيكي يا پلاستيكي براي مواد خورنده وباز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دستكش باتوجه به نوع ماد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انبركها جهت عدم تماس با مو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3232777618"/>
          <p:cNvPicPr/>
          <p:nvPr/>
        </p:nvPicPr>
        <p:blipFill>
          <a:blip r:embed="rId1"/>
          <a:stretch/>
        </p:blipFill>
        <p:spPr>
          <a:xfrm>
            <a:off x="755640" y="404640"/>
            <a:ext cx="1720800" cy="1055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3M_6000_series_respirator"/>
          <p:cNvPicPr/>
          <p:nvPr/>
        </p:nvPicPr>
        <p:blipFill>
          <a:blip r:embed="rId2"/>
          <a:stretch/>
        </p:blipFill>
        <p:spPr>
          <a:xfrm>
            <a:off x="179280" y="4797360"/>
            <a:ext cx="3314880" cy="1209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northglovepg15-t297fl"/>
          <p:cNvPicPr/>
          <p:nvPr/>
        </p:nvPicPr>
        <p:blipFill>
          <a:blip r:embed="rId3"/>
          <a:stretch/>
        </p:blipFill>
        <p:spPr>
          <a:xfrm>
            <a:off x="4427640" y="5229360"/>
            <a:ext cx="2209680" cy="1371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"/>
          <p:cNvPicPr/>
          <p:nvPr/>
        </p:nvPicPr>
        <p:blipFill>
          <a:blip r:embed="rId4"/>
          <a:stretch/>
        </p:blipFill>
        <p:spPr>
          <a:xfrm>
            <a:off x="0" y="2421000"/>
            <a:ext cx="2706840" cy="1757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هودهاي شيميايي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128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 محفظه  بسته است كه فرد رااز در معرض بودن فيومهاي شيميايي ،گازها و آيروسلها در امان نگه م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ها معمولا هواي اتاق را به داخل كشيده واز طريق دودكش خارج مي نماي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ايدهودها هميشه درهنگام حضور روشن باشن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صفحه جلو هود بايد در محل مشخص قرار گي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3067200" cy="2457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نامه بازرسي هودهاي شيميايي</a:t>
            </a:r>
            <a:r>
              <a:rPr b="0" lang="fa-IR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66"/>
                </a:solidFill>
                <a:latin typeface="Arial"/>
              </a:rPr>
              <a:t>بازرسي ساليان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تست از جهت مناسب بودن فلو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داشتن بر چسب كاربرد هود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ايمني صفحه جلو هود از نظر محل قرار گرفتن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5042160" cy="2619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59292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)Vapor pressu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por Dens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Chemical properti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3)Solubility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4)  Warn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eft Brace 4"/>
          <p:cNvSpPr/>
          <p:nvPr/>
        </p:nvSpPr>
        <p:spPr>
          <a:xfrm>
            <a:off x="3071880" y="2000160"/>
            <a:ext cx="214200" cy="264312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2643120"/>
              <a:gd name="textAreaBottom" fmla="*/ 26377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"/>
                  <a:pt x="10800" y="146"/>
                </a:cubicBezTo>
                <a:lnTo>
                  <a:pt x="10800" y="10654"/>
                </a:lnTo>
                <a:cubicBezTo>
                  <a:pt x="10800" y="10727"/>
                  <a:pt x="5400" y="10800"/>
                  <a:pt x="0" y="10800"/>
                </a:cubicBezTo>
                <a:cubicBezTo>
                  <a:pt x="5400" y="10800"/>
                  <a:pt x="10800" y="10873"/>
                  <a:pt x="10800" y="10946"/>
                </a:cubicBezTo>
                <a:lnTo>
                  <a:pt x="10800" y="21454"/>
                </a:lnTo>
                <a:cubicBezTo>
                  <a:pt x="10800" y="2152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نكات قابل توجه در هودهاي شيميايي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عوامل موثر بر توربولانت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حركات سريع دست در داخل و خارج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انسداد مسير جريا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رفت و آمد و حركت افر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سطح پنجره جلوي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بهبود عملكرد به سطح پنجره هود بستگ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محل اين پنجره هميشه بايد مشخص باش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914560" cy="3273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8540640" cy="3649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مثال 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395280" y="1839960"/>
            <a:ext cx="8086680" cy="5018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Water lilies.jpg"/>
          <p:cNvPicPr/>
          <p:nvPr/>
        </p:nvPicPr>
        <p:blipFill>
          <a:blip r:embed="rId1"/>
          <a:stretch/>
        </p:blipFill>
        <p:spPr>
          <a:xfrm>
            <a:off x="-285840" y="-15840"/>
            <a:ext cx="9501120" cy="68738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285840" y="7142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THANK   YOU  FOR  YOUR  PATI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eft Brace 4"/>
          <p:cNvSpPr/>
          <p:nvPr/>
        </p:nvSpPr>
        <p:spPr>
          <a:xfrm>
            <a:off x="642960" y="1143000"/>
            <a:ext cx="571320" cy="27860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786040"/>
              <a:gd name="textAreaBottom" fmla="*/ 2771280 h 27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"/>
                  <a:pt x="10800" y="369"/>
                </a:cubicBezTo>
                <a:lnTo>
                  <a:pt x="10800" y="10431"/>
                </a:lnTo>
                <a:cubicBezTo>
                  <a:pt x="10800" y="10616"/>
                  <a:pt x="5400" y="10800"/>
                  <a:pt x="0" y="10800"/>
                </a:cubicBezTo>
                <a:cubicBezTo>
                  <a:pt x="5400" y="10800"/>
                  <a:pt x="10800" y="10985"/>
                  <a:pt x="10800" y="11169"/>
                </a:cubicBezTo>
                <a:lnTo>
                  <a:pt x="10800" y="21231"/>
                </a:lnTo>
                <a:cubicBezTo>
                  <a:pt x="10800" y="2141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000080" y="157176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Volatile(&gt;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emi volatile (1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- Non volatile(&lt;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ontaminants                 Vap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Aeros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eft Brace 3"/>
          <p:cNvSpPr/>
          <p:nvPr/>
        </p:nvSpPr>
        <p:spPr>
          <a:xfrm>
            <a:off x="2357280" y="1071720"/>
            <a:ext cx="500400" cy="3357360"/>
          </a:xfrm>
          <a:custGeom>
            <a:avLst/>
            <a:gdLst>
              <a:gd name="textAreaLeft" fmla="*/ 319680 w 500400"/>
              <a:gd name="textAreaRight" fmla="*/ 500760 w 500400"/>
              <a:gd name="textAreaTop" fmla="*/ 12960 h 3357360"/>
              <a:gd name="textAreaBottom" fmla="*/ 334440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eft Brace 3"/>
          <p:cNvSpPr/>
          <p:nvPr/>
        </p:nvSpPr>
        <p:spPr>
          <a:xfrm>
            <a:off x="714240" y="928800"/>
            <a:ext cx="357480" cy="335736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3357360"/>
              <a:gd name="textAreaBottom" fmla="*/ 334836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6"/>
                  <a:pt x="10800" y="191"/>
                </a:cubicBezTo>
                <a:lnTo>
                  <a:pt x="10800" y="10609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6"/>
                  <a:pt x="10800" y="10991"/>
                </a:cubicBezTo>
                <a:lnTo>
                  <a:pt x="10800" y="21409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143000" y="1071720"/>
            <a:ext cx="300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Arial"/>
                <a:hlinkClick r:id="rId1" action="ppaction://hlinksldjump"/>
              </a:rPr>
              <a:t>D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eft Brace 3"/>
          <p:cNvSpPr/>
          <p:nvPr/>
        </p:nvSpPr>
        <p:spPr>
          <a:xfrm>
            <a:off x="1428840" y="2214720"/>
            <a:ext cx="357120" cy="23572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2357280"/>
              <a:gd name="textAreaBottom" fmla="*/ 2348280 h 23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7"/>
                  <a:pt x="10800" y="273"/>
                </a:cubicBezTo>
                <a:lnTo>
                  <a:pt x="10800" y="10527"/>
                </a:lnTo>
                <a:cubicBezTo>
                  <a:pt x="10800" y="10664"/>
                  <a:pt x="5400" y="10800"/>
                  <a:pt x="0" y="10800"/>
                </a:cubicBezTo>
                <a:cubicBezTo>
                  <a:pt x="5400" y="10800"/>
                  <a:pt x="10800" y="10937"/>
                  <a:pt x="10800" y="11073"/>
                </a:cubicBezTo>
                <a:lnTo>
                  <a:pt x="10800" y="21327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714680" y="2500200"/>
            <a:ext cx="357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onorg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rganic(microbi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mmabl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physical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Explosiv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Reactiv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zardous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2)Health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eft Brace 5"/>
          <p:cNvSpPr/>
          <p:nvPr/>
        </p:nvSpPr>
        <p:spPr>
          <a:xfrm>
            <a:off x="1643040" y="785880"/>
            <a:ext cx="500040" cy="40719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4071960"/>
              <a:gd name="textAreaBottom" fmla="*/ 4059000 h 407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"/>
                  <a:pt x="10800" y="221"/>
                </a:cubicBezTo>
                <a:lnTo>
                  <a:pt x="10800" y="10579"/>
                </a:lnTo>
                <a:cubicBezTo>
                  <a:pt x="10800" y="10690"/>
                  <a:pt x="5400" y="10800"/>
                  <a:pt x="0" y="10800"/>
                </a:cubicBezTo>
                <a:cubicBezTo>
                  <a:pt x="5400" y="10800"/>
                  <a:pt x="10800" y="10911"/>
                  <a:pt x="10800" y="11021"/>
                </a:cubicBezTo>
                <a:lnTo>
                  <a:pt x="10800" y="21379"/>
                </a:lnTo>
                <a:cubicBezTo>
                  <a:pt x="10800" y="214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eft Brace 6"/>
          <p:cNvSpPr/>
          <p:nvPr/>
        </p:nvSpPr>
        <p:spPr>
          <a:xfrm>
            <a:off x="3429000" y="785880"/>
            <a:ext cx="714240" cy="200016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2000160"/>
              <a:gd name="textAreaBottom" fmla="*/ 198180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2"/>
                  <a:pt x="10800" y="643"/>
                </a:cubicBezTo>
                <a:lnTo>
                  <a:pt x="10800" y="10157"/>
                </a:lnTo>
                <a:cubicBezTo>
                  <a:pt x="10800" y="10479"/>
                  <a:pt x="5400" y="10800"/>
                  <a:pt x="0" y="10800"/>
                </a:cubicBezTo>
                <a:cubicBezTo>
                  <a:pt x="5400" y="10800"/>
                  <a:pt x="10800" y="11122"/>
                  <a:pt x="10800" y="11443"/>
                </a:cubicBezTo>
                <a:lnTo>
                  <a:pt x="10800" y="20957"/>
                </a:lnTo>
                <a:cubicBezTo>
                  <a:pt x="10800" y="212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Chron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eft Brace 3"/>
          <p:cNvSpPr/>
          <p:nvPr/>
        </p:nvSpPr>
        <p:spPr>
          <a:xfrm>
            <a:off x="1714680" y="785880"/>
            <a:ext cx="500040" cy="214308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143080"/>
              <a:gd name="textAreaBottom" fmla="*/ 21301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0"/>
                  <a:pt x="10800" y="420"/>
                </a:cubicBezTo>
                <a:lnTo>
                  <a:pt x="10800" y="10380"/>
                </a:lnTo>
                <a:cubicBezTo>
                  <a:pt x="10800" y="10590"/>
                  <a:pt x="5400" y="10800"/>
                  <a:pt x="0" y="10800"/>
                </a:cubicBezTo>
                <a:cubicBezTo>
                  <a:pt x="5400" y="10800"/>
                  <a:pt x="10800" y="11010"/>
                  <a:pt x="10800" y="11220"/>
                </a:cubicBezTo>
                <a:lnTo>
                  <a:pt x="10800" y="21180"/>
                </a:lnTo>
                <a:cubicBezTo>
                  <a:pt x="10800" y="213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785880" y="3786120"/>
            <a:ext cx="768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ver 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eft Brace 6"/>
          <p:cNvSpPr/>
          <p:nvPr/>
        </p:nvSpPr>
        <p:spPr>
          <a:xfrm>
            <a:off x="5643720" y="2928960"/>
            <a:ext cx="428400" cy="198612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1986120"/>
              <a:gd name="textAreaBottom" fmla="*/ 1974960 h 19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4"/>
                  <a:pt x="10800" y="388"/>
                </a:cubicBezTo>
                <a:lnTo>
                  <a:pt x="10800" y="10412"/>
                </a:lnTo>
                <a:cubicBezTo>
                  <a:pt x="10800" y="10606"/>
                  <a:pt x="5400" y="10800"/>
                  <a:pt x="0" y="10800"/>
                </a:cubicBezTo>
                <a:cubicBezTo>
                  <a:pt x="5400" y="10800"/>
                  <a:pt x="10800" y="10994"/>
                  <a:pt x="10800" y="11188"/>
                </a:cubicBezTo>
                <a:lnTo>
                  <a:pt x="10800" y="21212"/>
                </a:lnTo>
                <a:cubicBezTo>
                  <a:pt x="10800" y="2140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6000840" y="31431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bes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000840" y="421488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sited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5"/>
          <p:cNvSpPr/>
          <p:nvPr/>
        </p:nvSpPr>
        <p:spPr>
          <a:xfrm>
            <a:off x="500040" y="1701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s of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eft Brace 6"/>
          <p:cNvSpPr/>
          <p:nvPr/>
        </p:nvSpPr>
        <p:spPr>
          <a:xfrm>
            <a:off x="2214720" y="785880"/>
            <a:ext cx="571320" cy="22143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214360"/>
              <a:gd name="textAreaBottom" fmla="*/ 2199600 h 22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2"/>
                  <a:pt x="10800" y="464"/>
                </a:cubicBezTo>
                <a:lnTo>
                  <a:pt x="10800" y="10336"/>
                </a:lnTo>
                <a:cubicBezTo>
                  <a:pt x="10800" y="10568"/>
                  <a:pt x="5400" y="10800"/>
                  <a:pt x="0" y="10800"/>
                </a:cubicBezTo>
                <a:cubicBezTo>
                  <a:pt x="5400" y="10800"/>
                  <a:pt x="10800" y="11032"/>
                  <a:pt x="10800" y="11264"/>
                </a:cubicBezTo>
                <a:lnTo>
                  <a:pt x="10800" y="21136"/>
                </a:lnTo>
                <a:cubicBezTo>
                  <a:pt x="10800" y="2136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928960" y="642960"/>
            <a:ext cx="257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Respirato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eft Brace 8"/>
          <p:cNvSpPr/>
          <p:nvPr/>
        </p:nvSpPr>
        <p:spPr>
          <a:xfrm>
            <a:off x="3786120" y="1714680"/>
            <a:ext cx="214560" cy="78552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785520"/>
              <a:gd name="textAreaBottom" fmla="*/ 780120 h 78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4071960" y="17146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y Solubility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of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571680" y="471492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l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eft Brace 11"/>
          <p:cNvSpPr/>
          <p:nvPr/>
        </p:nvSpPr>
        <p:spPr>
          <a:xfrm>
            <a:off x="3357720" y="3357720"/>
            <a:ext cx="500040" cy="31431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143160"/>
              <a:gd name="textAreaBottom" fmla="*/ 3130200 h 314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3"/>
                  <a:pt x="10800" y="286"/>
                </a:cubicBezTo>
                <a:lnTo>
                  <a:pt x="10800" y="10514"/>
                </a:lnTo>
                <a:cubicBezTo>
                  <a:pt x="10800" y="10657"/>
                  <a:pt x="5400" y="10800"/>
                  <a:pt x="0" y="10800"/>
                </a:cubicBezTo>
                <a:cubicBezTo>
                  <a:pt x="5400" y="10800"/>
                  <a:pt x="10800" y="10943"/>
                  <a:pt x="10800" y="11086"/>
                </a:cubicBezTo>
                <a:lnTo>
                  <a:pt x="10800" y="21314"/>
                </a:lnTo>
                <a:cubicBezTo>
                  <a:pt x="10800" y="214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929040" y="3143160"/>
            <a:ext cx="228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h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a2"/>
          <p:cNvPicPr/>
          <p:nvPr/>
        </p:nvPicPr>
        <p:blipFill>
          <a:blip r:embed="rId2"/>
          <a:stretch/>
        </p:blipFill>
        <p:spPr>
          <a:xfrm>
            <a:off x="214200" y="2357280"/>
            <a:ext cx="2184480" cy="174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a1"/>
          <p:cNvPicPr/>
          <p:nvPr/>
        </p:nvPicPr>
        <p:blipFill>
          <a:blip r:embed="rId3"/>
          <a:stretch/>
        </p:blipFill>
        <p:spPr>
          <a:xfrm>
            <a:off x="7143840" y="471600"/>
            <a:ext cx="1780920" cy="1814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22:07:53Z</dcterms:created>
  <dc:creator>MacDonald</dc:creator>
  <dc:description/>
  <dc:language>en-US</dc:language>
  <cp:lastModifiedBy>ALI</cp:lastModifiedBy>
  <dcterms:modified xsi:type="dcterms:W3CDTF">2010-10-09T10:56:41Z</dcterms:modified>
  <cp:revision>376</cp:revision>
  <dc:subject/>
  <dc:title>Slide 1</dc:title>
</cp:coreProperties>
</file>