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BCC8-7B5C-4192-B76F-47ADE8B72EE4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2F2E-F750-42F8-817D-8EA964C71E11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BCF5-7876-4AA0-80F2-893C2E6F5896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027F-978A-4E7F-9660-5B84913AFDB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3EFB-AE25-4B3F-B9C2-4B5EFA60C03F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5F01-68F5-4824-8E1A-9F36126670D3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C740-FCE2-406A-853B-7044F7CA0B5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B4FE-1360-47B6-854E-2E4F1EB3D0C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64A4-FF23-43CD-83C7-42043F2A122A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B622-4195-4ED9-B20D-5CF796EDF9E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7C96-C9BB-4082-96FF-3D38DE82466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C5F7-7EC0-46E2-8AB9-22E2AC3F8D0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5669-1CF6-4C95-AFCF-FE1E5491EE2E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3B44-17CB-4F34-BC18-5AAC15B880C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C64-18FD-40E5-B67A-F9089E12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611C-CAE3-418F-B54D-0CB5D6B5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69F-15FD-45E8-B353-E14B5B9C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1613-F3DC-493B-B172-DBABD023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1334-6660-445A-8124-BD98E658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AEB6-6505-4E64-BA7A-695A0E88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9F33-91EB-4F8A-8240-7214DB1E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C62E-5A1E-4875-8F91-0C059A79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8649-281D-4112-85A9-5A74614F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8B3D-B54B-4CD6-B9DA-171F3621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23FE-2C93-4BC3-8EB6-801F1124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BCF3-43A4-4258-8835-84653041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1BFC-F9B3-4D7A-9E17-982BC23A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BFDC-0FA7-4366-9F1E-FA8941DF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67D4-F740-4A04-990D-3E7F92EF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45B1-DCFF-4901-A248-CD6796C2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577B-ABB6-43B6-9415-6C2702AF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F515B-2DBA-442C-8AD8-E8CA3B3F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BAE97-AE3C-43B5-81D6-1C720F8C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D5947-1AE2-4AE2-B454-74E85D01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8914F-14E6-4921-8631-035C13E9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73053-26EA-4B8E-9089-DE07E72F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346-CB74-45B3-BA5A-26A1E0FB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360B2-28F3-46F8-A590-DEC57A73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9D0B5-E9C7-4F7D-BEE6-8316B174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F3E4A-B7A1-4D17-8603-F2A929A2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2C3C4-1BA8-4DE6-AFB2-17EEF763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75FA4-4A3C-4CA2-AB0F-7C84A1B3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70D30-8F80-46A2-8793-EEDCC958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540E9-C3D5-4F91-8F79-CBB9E5D3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F39-C07D-40FB-9976-BA0D5B7D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82C-0222-4F02-93A1-8B0E561F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F2DB-4CA4-450A-AABE-44883269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5817-B423-4D34-A027-279245CD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95B-6CD9-4134-A22E-C43A463F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705-CB35-46E7-9136-EBED37D8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407E-326B-4DC9-8EDB-5E71A2A1CF7B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143680" y="522360"/>
            <a:ext cx="3503520" cy="938160"/>
          </a:xfrm>
          <a:prstGeom prst="rect">
            <a:avLst/>
          </a:prstGeom>
          <a:solidFill>
            <a:srgbClr val="f0eee4"/>
          </a:solidFill>
          <a:ln w="25560">
            <a:solidFill>
              <a:srgbClr val="f0e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76280" y="501480"/>
            <a:ext cx="4762440" cy="99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7786800" y="487440"/>
            <a:ext cx="876240" cy="11826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9"/>
          <p:cNvSpPr/>
          <p:nvPr/>
        </p:nvSpPr>
        <p:spPr>
          <a:xfrm>
            <a:off x="463680" y="156528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5214960" y="500040"/>
            <a:ext cx="2581200" cy="95580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1"/>
          <p:cNvSpPr/>
          <p:nvPr/>
        </p:nvSpPr>
        <p:spPr>
          <a:xfrm>
            <a:off x="476280" y="624060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D567-A4C2-4A4A-9F8E-97E01A93952E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A8C8-1316-4E8F-B81A-C15EDF65B20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lectrical_safety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file:///HeatStress.ppt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hyperlink" Target="file:///chemical%20hazard%20.ppt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LaserSafetyTraining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Lab Safety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Physical and Chemical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Haz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.Khosra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akhosravi@yahoo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28560" y="1714680"/>
            <a:ext cx="62578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 marL="55404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adding items to LN2.  Rapid addition of items can result in splashes to the face and ha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ounded Rectangle 3"/>
          <p:cNvSpPr/>
          <p:nvPr/>
        </p:nvSpPr>
        <p:spPr>
          <a:xfrm>
            <a:off x="47160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302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305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308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311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314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17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71480" y="1714680"/>
            <a:ext cx="59626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isotope includes both sealed and unsealed sour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led:  gas chromatograph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ealed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5651640" y="4076640"/>
            <a:ext cx="1657080" cy="1968480"/>
            <a:chOff x="5651640" y="4076640"/>
            <a:chExt cx="1657080" cy="1968480"/>
          </a:xfrm>
        </p:grpSpPr>
        <p:pic>
          <p:nvPicPr>
            <p:cNvPr id="321" name="Picture 4" descr="87"/>
            <p:cNvPicPr/>
            <p:nvPr/>
          </p:nvPicPr>
          <p:blipFill>
            <a:blip r:embed="rId1"/>
            <a:stretch/>
          </p:blipFill>
          <p:spPr>
            <a:xfrm>
              <a:off x="5651640" y="4076640"/>
              <a:ext cx="165708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5"/>
            <p:cNvSpPr/>
            <p:nvPr/>
          </p:nvSpPr>
          <p:spPr>
            <a:xfrm>
              <a:off x="5851080" y="567684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adioa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ounded Rectangle 6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Rounded Rectangle 7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2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Rounded Rectangle 9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28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Rounded Rectangle 11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31" name="Rounded Rectangle 11" descr=""/>
            <p:cNvPicPr/>
            <p:nvPr/>
          </p:nvPicPr>
          <p:blipFill>
            <a:blip r:embed="rId4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Rounded Rectangle 12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34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Rounded Rectangle 13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37" name="Rounded Rectangle 13" descr=""/>
            <p:cNvPicPr/>
            <p:nvPr/>
          </p:nvPicPr>
          <p:blipFill>
            <a:blip r:embed="rId6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Rounded Rectangle 14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41" name="Rounded Rectangle 14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571840" y="1785960"/>
            <a:ext cx="6114960" cy="4340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radioactive materials requires prior authorization from the UAF Radiation Safety Offi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907-474-6771)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E: All project members must have UAF Training and Authoriz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ounded Rectangle 12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ounded Rectangle 13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46" name="Rounded Rectangle 13" descr=""/>
            <p:cNvPicPr/>
            <p:nvPr/>
          </p:nvPicPr>
          <p:blipFill>
            <a:blip r:embed="rId1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Rounded Rectangle 15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49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Rounded Rectangle 17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52" name="Rounded Rectangle 17" descr=""/>
            <p:cNvPicPr/>
            <p:nvPr/>
          </p:nvPicPr>
          <p:blipFill>
            <a:blip r:embed="rId3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Rounded Rectangle 18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55" name="Rounded Rectangle 18" descr=""/>
            <p:cNvPicPr/>
            <p:nvPr/>
          </p:nvPicPr>
          <p:blipFill>
            <a:blip r:embed="rId4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Rounded Rectangle 19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58" name="Rounded Rectangle 19" descr=""/>
            <p:cNvPicPr/>
            <p:nvPr/>
          </p:nvPicPr>
          <p:blipFill>
            <a:blip r:embed="rId5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Rounded Rectangle 9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62" name="Rounded Rectangle 9" descr=""/>
            <p:cNvPicPr/>
            <p:nvPr/>
          </p:nvPicPr>
          <p:blipFill>
            <a:blip r:embed="rId6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KINGC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2457360" y="1967040"/>
            <a:ext cx="535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B Zar"/>
              </a:rPr>
              <a:t>THANKS FOR YOUY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(but not limited to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g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 haz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ounded Rectangle 3"/>
          <p:cNvSpPr/>
          <p:nvPr/>
        </p:nvSpPr>
        <p:spPr>
          <a:xfrm>
            <a:off x="428760" y="235728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Physic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ounded Rectangle 4"/>
          <p:cNvGrpSpPr/>
          <p:nvPr/>
        </p:nvGrpSpPr>
        <p:grpSpPr>
          <a:xfrm>
            <a:off x="407880" y="2840040"/>
            <a:ext cx="1994040" cy="390600"/>
            <a:chOff x="407880" y="2840040"/>
            <a:chExt cx="1994040" cy="390600"/>
          </a:xfrm>
        </p:grpSpPr>
        <p:pic>
          <p:nvPicPr>
            <p:cNvPr id="14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840040"/>
              <a:ext cx="19940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60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4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4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4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5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5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0200" y="1714320"/>
            <a:ext cx="622944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ssed gas cylinders must be restrained in an upright position in the la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s must be in place when cylinder is not in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ure regulator and supply lines are in good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use rigid plastic tubing, which can shatter if the pressure limits are excee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3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6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6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6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6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7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7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71840" y="1714680"/>
            <a:ext cx="611496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urning o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the flow valve is open (so there will be no pressure in the supply line).  Adjust flow valve only after you have opened the regul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 your head away from the ta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79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82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8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88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91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11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95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43120" y="1714320"/>
            <a:ext cx="604368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inspect electrical cords prior to use.  Do not use if they are cracked or have exposed wir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use electrical appliances near wa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sure hands are dry when unplugging a cor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t overload outle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 excessive use of extension cor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override the safety features on electrical equip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ounded Rectangle 3">
            <a:hlinkClick r:id="rId1"/>
          </p:cNvPr>
          <p:cNvSpPr/>
          <p:nvPr/>
        </p:nvSpPr>
        <p:spPr>
          <a:xfrm>
            <a:off x="428760" y="3357720"/>
            <a:ext cx="20001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lectrical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0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0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06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09" name="Rounded Rectangle 1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12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12" name="Rounded Rectangle 12" descr=""/>
            <p:cNvPicPr/>
            <p:nvPr/>
          </p:nvPicPr>
          <p:blipFill>
            <a:blip r:embed="rId7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15" name="Rounded Rectangle 8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ork with lasers in your lab, your supervisor should provide you with specific operating procedures and safety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er Safety training is available through UAF EHS&amp;RM (907-474-276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ounded Rectangle 3">
            <a:hlinkClick r:id="rId1"/>
          </p:cNvPr>
          <p:cNvSpPr/>
          <p:nvPr/>
        </p:nvSpPr>
        <p:spPr>
          <a:xfrm>
            <a:off x="441360" y="385776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2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2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26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ounded Rectangle 9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29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32" name="Rounded Rectangle 10" descr=""/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35" name="Rounded Rectangle 11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499840" y="1714680"/>
            <a:ext cx="5915160" cy="4410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mal hazards include both hot and cold obj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t ite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heat-resistant gloves when handling hot i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heating liquids on hot pl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 stir bar or Boil-Eezers to ensure even heating of the liquids (to prevent superheating and boil-ov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leave hot plates unatten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ed Rectangle 4"/>
          <p:cNvSpPr/>
          <p:nvPr/>
        </p:nvSpPr>
        <p:spPr>
          <a:xfrm>
            <a:off x="45396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ounded Rectangle 5"/>
          <p:cNvGrpSpPr/>
          <p:nvPr/>
        </p:nvGrpSpPr>
        <p:grpSpPr>
          <a:xfrm>
            <a:off x="426960" y="2341440"/>
            <a:ext cx="1987560" cy="389160"/>
            <a:chOff x="426960" y="2341440"/>
            <a:chExt cx="1987560" cy="389160"/>
          </a:xfrm>
        </p:grpSpPr>
        <p:pic>
          <p:nvPicPr>
            <p:cNvPr id="240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2696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604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Rounded Rectangle 7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43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46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49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Rounded Rectangle 11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52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56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499840" y="1714680"/>
            <a:ext cx="6186600" cy="4411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nsen bur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ect tubing prior to using the burner.  It should not have cracks, and should fit tightly to the burner and to the gas spig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alert to gas leaks along the tubing—these can igni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 back from the burner when lighting the g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47952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Rounded Rectangle 5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6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Rounded Rectangle 7"/>
          <p:cNvGrpSpPr/>
          <p:nvPr/>
        </p:nvGrpSpPr>
        <p:grpSpPr>
          <a:xfrm>
            <a:off x="457200" y="4846680"/>
            <a:ext cx="1987560" cy="384120"/>
            <a:chOff x="457200" y="4846680"/>
            <a:chExt cx="1987560" cy="384120"/>
          </a:xfrm>
        </p:grpSpPr>
        <p:pic>
          <p:nvPicPr>
            <p:cNvPr id="264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572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068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67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7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Rounded Rectangle 11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73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76" name="Rounded Rectangle 8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0200" y="1714680"/>
            <a:ext cx="641520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Nitrogen (LN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insulated or cryoprotective gloves when accessing LN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 cotton mittens are not sufficient.  Splashes of LN2 can easily penetrate the mittens, causing frostbite and serious inju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face shield or splash goggles to protect face and/or eyes from splas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ounded Rectangle 3"/>
          <p:cNvSpPr/>
          <p:nvPr/>
        </p:nvSpPr>
        <p:spPr>
          <a:xfrm>
            <a:off x="46368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Rounded Rectangle 4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81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8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Rounded Rectangle 8"/>
          <p:cNvGrpSpPr/>
          <p:nvPr/>
        </p:nvGrpSpPr>
        <p:grpSpPr>
          <a:xfrm>
            <a:off x="444600" y="3340080"/>
            <a:ext cx="1987560" cy="390600"/>
            <a:chOff x="444600" y="3340080"/>
            <a:chExt cx="1987560" cy="390600"/>
          </a:xfrm>
        </p:grpSpPr>
        <p:pic>
          <p:nvPicPr>
            <p:cNvPr id="28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77720" y="3375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90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93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96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8:20:37Z</dcterms:created>
  <dc:creator>MRT</dc:creator>
  <dc:description/>
  <dc:language>en-US</dc:language>
  <cp:lastModifiedBy>دشئث</cp:lastModifiedBy>
  <dcterms:modified xsi:type="dcterms:W3CDTF">2010-10-16T17:55:37Z</dcterms:modified>
  <cp:revision>49</cp:revision>
  <dc:subject/>
  <dc:title>Slide 1</dc:title>
</cp:coreProperties>
</file>